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69C-41BF-481D-B8B0-A89F3E58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0BD-0201-4826-ABFD-47E9573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240-DC96-4DE0-A8A4-1ECEB183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A39-5220-47A8-A91D-33EC0B10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816-36AA-4838-8917-7D243D7D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3CF-DC8D-4A41-962A-C51A8652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43C4-2F2C-49EC-ABAE-8BA17496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3704-9A45-4F94-A002-B47D2D4F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E67-78CB-4286-9766-944037C4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2FE4-2C2B-456D-B0FD-6F6001D0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67D4-F818-4DF4-881D-5B9AFA7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28A-3150-4651-A00F-B7B4BB5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6294-B1C4-4B99-B56E-D138922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301-4452-4585-AF54-3CD28D4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2C3F-4D60-4DB9-BA22-AFE5F37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703-F734-4EF0-975D-FA229310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F48F-8401-448F-815E-0488275D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0FAB-99DE-4457-9E8E-2039FD37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A10B-83FC-4DF7-A1F9-506C5448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23DC-2E22-457C-8D41-F58CA79F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1960-6708-4F21-9709-8976954B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051D-74D0-4433-A4CE-BF72793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0B6-8782-4936-B983-44ED7D2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07D9-57B7-4C42-B669-F6B0AD6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1C2F-BB71-4D92-9765-EC06B42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0DAE-24DC-4658-B94F-F2C81DC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0AEC-8331-43DC-9C56-D7F3F67E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00F4-1E96-4213-8990-2BAF3AF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1B2C-FCAF-49CE-9FCD-1022F20C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3F3E-928B-4BCB-9CD6-367ADCB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5AA6-E47C-4F5A-8CA3-1856BF14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8A6B-A18B-434F-A6E3-246D3CA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C5C2-73CE-49BC-9645-AEC09864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D9A-259F-4A77-8059-8D32460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8201-28F5-46B2-AD42-12322C4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0ABB-F486-46B8-8A97-C25C427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FA99-925B-4193-A24B-91EABC7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1A7FB-C504-4CA3-86CA-59EE6A7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9998-12E3-442D-8211-CCF3EF3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456C-D74E-4C02-A724-A19D014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A95D-0B88-40FD-B556-939C2D5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6AD3-037E-4495-BF2F-BC0102FC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18FC-BBDC-4071-956F-6EB16019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E30A-D671-4470-9A51-BE1F5736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712-29A3-410E-8B5E-73787AB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BE83-DEB9-4C00-B6DF-A295C2B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C071-07D6-4946-A7AB-73C8DF4D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4A6F-2A1E-4AD9-B89E-AA94FB1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4721-C741-488B-AF4C-AC31EB35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3752-B9A9-4092-B691-C89B4C87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49E53-DE61-49EC-8F6D-C1218DC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60C4-5732-46AD-9EF9-DD0EA93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E18C-2FB2-47CE-933C-26A437E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6358-005C-4B99-9BA2-FEE5134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371B-1632-4CC1-B935-C20D66F7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5BF-AD62-4753-8255-A7819AE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C38B-E98A-4B46-9FB6-4102DD5A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D523-0196-4C96-A4DF-79DADD66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8F44-8425-405C-AA0C-4C096123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30F9-6F64-40D6-B062-4835C60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8F41-995E-41F4-B26B-3138320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8B7A-827C-4541-8CB5-5C3FB86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97A5-EEA4-4EE8-9B6A-C65F5F8D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11E2F-2D31-4D98-99CA-BC019A3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DC26-45D2-4D4C-9AD4-CA293F8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6AB1-2015-4F32-B330-E71C135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B50-7ACF-456A-91FC-9F6C86F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8B3D-1001-4E41-AEDB-A2385B7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4F604-7D68-435A-B1CE-F6F4F85D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AFA5-56D5-4545-A830-25DDB3C4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BCF4C-10E6-4049-BFA4-18E8EC0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EF43-E3FC-4611-BABE-9036788E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59DD-8428-4D12-94CC-33DC65DD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29A6-7B5C-4627-9448-10A8C73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3EF9D-D7DA-4910-A8ED-A36C9F27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0095-8AF6-475F-92DC-B020FE34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6095-88A7-4B18-8485-3233779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A42-CBC8-48A4-99FE-9846398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4139-632B-4A41-992C-87C857F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6E32-9E8C-4E45-B4CA-0828F83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7299-760E-4919-9DB3-8BA2296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E04F-9430-419F-8843-CACBA032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5442-60EE-48ED-A540-299F1A75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A2E4-002A-4510-B762-C200B3E7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9E56F-C529-4088-8F58-0A54C4A5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CB80-50F4-47EF-B1F6-899CC5B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798A-F0B8-4093-A982-DFFD476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9272-48AD-42D6-B673-8C798667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919-6982-4F36-B48F-341A2B6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534B-232F-40FF-8BC9-7619E1B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003E-BF7E-4680-8EDD-BBEBF78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DD7A-9B1C-44A4-9BCF-55AE659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311C2-62F8-4D8A-9981-C253FC3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9A04-DA8E-44BE-A39D-7445CE0B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6D4DF-CD63-407C-991E-D33DEEE3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41A8-A4CE-45A3-A50D-D98E0BC2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5435-A38C-49BA-BBCC-7DA2E106E35D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91B3-002A-4A2D-B186-4CEC2E58C4B2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111-511B-4EF6-A9CF-34BCADD7F79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493-A090-4776-B720-52A126ABD146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AE5-4DBA-4168-BB9C-A8B92F69FDB7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22E-1C28-40C0-888A-0D717C86598C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262-DBA2-4270-8997-B5043393F1F9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B8C0-688E-4284-B686-08E29A07BC05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2444760" y="901800"/>
            <a:ext cx="6888240" cy="1487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images.barnesandnoble.com/images/14890000/14899727.JPG"/>
          <p:cNvPicPr/>
          <p:nvPr/>
        </p:nvPicPr>
        <p:blipFill>
          <a:blip r:embed="rId2"/>
          <a:stretch/>
        </p:blipFill>
        <p:spPr>
          <a:xfrm>
            <a:off x="0" y="0"/>
            <a:ext cx="4564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dark.pozadia.org/images/wallpapers/Feeling_of_Isolation-90104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Lowell’s own representation of the feelings he has or had of him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Questioned the morals and attributes of a per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Lucida Sans Unicode"/>
              </a:rPr>
              <a:t>Mental illness that lead to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3964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cLean Hospital in Belmont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place where Lowell wrote his poem to a lady called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n Adden who was a girl he had met and fallen in love with during a brief st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iginal draft is 25 lines shorter than the actual po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y at the psychiatric hospital indicate the confinement in the hospit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Picture 2" descr="http://tech.mit.edu/V124/N59/11hospitalgrantd.jpg"/>
          <p:cNvPicPr/>
          <p:nvPr/>
        </p:nvPicPr>
        <p:blipFill>
          <a:blip r:embed="rId1"/>
          <a:stretch/>
        </p:blipFill>
        <p:spPr>
          <a:xfrm>
            <a:off x="1835280" y="404640"/>
            <a:ext cx="540072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14400" y="436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king in the Blue as a title could indic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wareness and recognition of his condition by him being in the psychiatric hospital and him finding himsel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- A state of mind or a place symbolised by blue as he could be somewhere imaginary or in a place of nothingnes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95640" y="155520"/>
            <a:ext cx="55450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128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st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ere’s nest- symbolising confusion and disorientation as it talks about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his drowsy head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se of vague adjectives such as 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maunder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blue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bsence” - i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a of not knowing how to feel, consumed and the losing of ones identity. Combined with title idea that you feel like you are drowning in the blu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Picture 2" descr="http://faithcenter.files.wordpress.com/2009/10/confusion_by_thiagolooney-png.jpg"/>
          <p:cNvPicPr/>
          <p:nvPr/>
        </p:nvPicPr>
        <p:blipFill>
          <a:blip r:embed="rId1"/>
          <a:stretch/>
        </p:blipFill>
        <p:spPr>
          <a:xfrm>
            <a:off x="2843280" y="333360"/>
            <a:ext cx="3384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5564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ing about sports and stereotypical nature of mal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rvard all-American fullback” ideal success story, academic and sporting recogni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amrod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– talking about the fact that football players are stupid and only live for contac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tif of the confused words describing his moods –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vaguely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http://www.news.harvard.edu/gazette/2002/06.06/photos/0-year-in-progress4-450.jpg"/>
          <p:cNvPicPr/>
          <p:nvPr/>
        </p:nvPicPr>
        <p:blipFill>
          <a:blip r:embed="rId1"/>
          <a:stretch/>
        </p:blipFill>
        <p:spPr>
          <a:xfrm>
            <a:off x="2050920" y="189000"/>
            <a:ext cx="4969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1128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ly cares about appearance and reput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he seen by others are his main though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e cut off from words 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ing that he cant find himself if he only thinks of his statu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http://blog.seattlepi.com/undraftedfreeagent/library/sweater.jpg"/>
          <p:cNvPicPr/>
          <p:nvPr/>
        </p:nvPicPr>
        <p:blipFill>
          <a:blip r:embed="rId1"/>
          <a:stretch/>
        </p:blipFill>
        <p:spPr>
          <a:xfrm>
            <a:off x="2916360" y="476280"/>
            <a:ext cx="3168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 of Louis the XVI as a rich and an arrogant 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ly cared about his imag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king about how tries to fit in where his finest clothes – 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irthday suit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http://queensboro.files.wordpress.com/2009/10/louis_xvi2.jpg"/>
          <p:cNvPicPr/>
          <p:nvPr/>
        </p:nvPicPr>
        <p:blipFill>
          <a:blip r:embed="rId1"/>
          <a:stretch/>
        </p:blipFill>
        <p:spPr>
          <a:xfrm>
            <a:off x="2700360" y="189000"/>
            <a:ext cx="3600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964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gain the motif of changing and styling your hair to get the fashionable loo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lating to title as it consumes you and you are then not your self as you are trying to make yourself look different than you are. – loss of identity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crewballs”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in the catholic church – reference to the churches image in today's societ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2" descr="http://www.bnphysio.com/main/wp-content/uploads/2009/04/hairdresser.jpg"/>
          <p:cNvPicPr/>
          <p:nvPr/>
        </p:nvPicPr>
        <p:blipFill>
          <a:blip r:embed="rId1"/>
          <a:stretch/>
        </p:blipFill>
        <p:spPr>
          <a:xfrm>
            <a:off x="2268360" y="189000"/>
            <a:ext cx="46072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4360" y="3860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tanz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king up to realisation of what you have becom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looking in the mirror and seeing that you are greater than you actually are. – sense of arrog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ck of the walk” – arrogance and fleeting confidenc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ice my age and half my weight.” – arrogance and the irony as you are looking at someone bigger than you a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2" descr="http://www.worldwideshoppingmall.co.uk/toys/images/products/0749851929.gif"/>
          <p:cNvPicPr/>
          <p:nvPr/>
        </p:nvPicPr>
        <p:blipFill>
          <a:blip r:embed="rId1"/>
          <a:stretch/>
        </p:blipFill>
        <p:spPr>
          <a:xfrm>
            <a:off x="2484360" y="333360"/>
            <a:ext cx="4103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6:45:56Z</dcterms:created>
  <dc:creator>user</dc:creator>
  <dc:description/>
  <dc:language>en-US</dc:language>
  <cp:lastModifiedBy>user</cp:lastModifiedBy>
  <dcterms:modified xsi:type="dcterms:W3CDTF">2010-06-13T11:21:17Z</dcterms:modified>
  <cp:revision>10</cp:revision>
  <dc:subject/>
  <dc:title>Waking in the Blue</dc:title>
</cp:coreProperties>
</file>